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E1F-98DD-4F01-A086-DD15AE7B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526-4E01-4D4A-8F8E-5B217472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4B6-1982-4D9C-94E4-F324E71C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7D6-B0D0-444E-9E55-521A1AAF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53D-BB6F-4794-A485-5AFF6C41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C23-D6B0-4FA5-B1F5-67B849E8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B40-5A89-4FB9-A240-2FF1FC53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A55-76A0-4149-BB9D-5C69B1D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D51-AF31-40A1-A23B-B44FB8C0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8D8-ACC8-4B23-B27C-65FCEC53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654-6EFA-4D09-A33B-57A60A71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9D3-2D18-46EA-8C38-1504FFA4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950-F4E8-49DE-B759-7D7838E7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orace flow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91800" y="10000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vidual sp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71280" y="134136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51640" y="134136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8880" y="1282680"/>
            <a:ext cx="835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en_hk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87040" y="1289160"/>
            <a:ext cx="802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en_s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44600" y="1720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ebi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0440" y="1700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q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21800" y="2492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989000"/>
            <a:ext cx="93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58920" y="2060640"/>
            <a:ext cx="10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58080" y="2233440"/>
            <a:ext cx="767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ce_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13880" y="3638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3280" y="2133720"/>
            <a:ext cx="1512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716360" y="2133720"/>
            <a:ext cx="1440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72040" y="3213000"/>
            <a:ext cx="774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ce_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61440" y="4437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1800" y="4437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67280" y="3933720"/>
            <a:ext cx="4334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933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219640" y="2133720"/>
            <a:ext cx="100800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11640" y="2133720"/>
            <a:ext cx="201600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97040" y="4170240"/>
            <a:ext cx="384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62120" y="2924280"/>
            <a:ext cx="384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0520" y="2225520"/>
            <a:ext cx="750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t_s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3:41:32Z</dcterms:created>
  <dc:creator>Joost van Duijn</dc:creator>
  <dc:description/>
  <dc:language>en-US</dc:language>
  <cp:lastModifiedBy>Joost van Duijn</cp:lastModifiedBy>
  <dcterms:modified xsi:type="dcterms:W3CDTF">2006-08-23T13:41:59Z</dcterms:modified>
  <cp:revision>1</cp:revision>
  <dc:subject/>
  <dc:title>Horace flow chart</dc:title>
</cp:coreProperties>
</file>